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Fallout shelter built by Louis Severance adjacent to his home near Akron, Mich., includes a special ventilation and escape hatch, an entrance to his basement, tiny kitchen, running water, sanitary facilities, and a sleeping and living area for the family of four. The shelter cost about $1,000. It has a 10-inch reinforced concrete ceiling with thick earth cover and concrete walls. Severance says, 'Ever since I was convinced what damage H-Bombs can do, I've wanted to build the shelter. Just as with my chicken farm, when there's a need I build it.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F44-B6F3-412E-9D89-5455482E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1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1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C80-8C01-4332-83F7-74C5F245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12992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A65-25FD-4B7E-8385-0BCDAA49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98108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98108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412992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412992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CE29-6790-402F-9EA6-626A89B4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2BD9-1E60-45E0-ABD3-6C2E0729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16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FF2B-15C7-4B8E-B80D-A93B0013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16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B591-A08C-449A-8391-0CA546F7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66D0-A44E-4B6B-A4CB-1EB19962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3904-A393-4050-B68F-05C30426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168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7207-BAE0-427E-8ACE-4C00D160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F392-F4E7-4C41-8993-6FAF3009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16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9EC-1568-40E8-805A-7C36B445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12992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2922-E528-4E02-BE6D-896C60B2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1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3349-EA13-4131-8071-AE18A33E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1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1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CC2B-C3E5-4D36-A5C1-D149ACD7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12992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51E9-8B38-488C-9D6B-8358A5CC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120" y="198108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6680" y="198108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120" y="412992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6680" y="4129920"/>
            <a:ext cx="264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E062-A327-4567-92EE-90114BB9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16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9B4F-F7AB-444A-A470-442652B7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EC32-F0DD-4509-9B5C-31F599A6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913-4EAF-4E8D-9B40-171476F8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168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F45-EDD4-448A-AF85-8144DBDB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8FA-E4A9-455F-A8D2-E168F056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12992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B22-FAC6-4D04-8D71-013E239B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981080"/>
            <a:ext cx="4011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1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EEE-294F-4134-9EDF-0382801F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16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16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C2424-6D53-436F-862E-5A8D808E44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8912B-0F07-4DCE-8F72-25058DD7EF6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KqXu-5jw60" TargetMode="Externa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old W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tional clash of ideolo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91320" y="3733920"/>
            <a:ext cx="1904760" cy="1252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676520" y="3733920"/>
            <a:ext cx="182700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Arms R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3320" y="1919160"/>
            <a:ext cx="8721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weapons became the biggest     source of tension in the Cold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479600" indent="-565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.S. used used two nuclear bombs on Japanese cities to end World War II in 194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479600" indent="-565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SSR tested their first nuke in 1949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he 1950’s, both sides had enough weapons to literally wipe out the other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479600" indent="-565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 = Mutually Assured De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16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uban Missile Cri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01640"/>
            <a:ext cx="8686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ld War hit its most tense moment during the Cuban Missi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sis in October of 19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viets placed missiles in Cuba (90 miles from Florid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fter 13 tense days of negotiation with U.S. President John F. Kennedy, Soviet President Kruschev agreed to remov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siles from Cu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hat was it like to live under the threat of a nuclear attack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ck and Cover: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www.youtube.com/watch?v=IKqXu-5jw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-9360"/>
            <a:ext cx="8610480" cy="68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6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nsion around the wor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9360" y="979560"/>
            <a:ext cx="8229600" cy="55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.S. never actually went to battle with the Sovi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1200" indent="-331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her, U.S. fought in places to prevent the spread of Soviet influence - e.g. Korea, Vietnam, Cuba, Nicar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1200" indent="-331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s were afraid of “Domino Effect” – if China falls to Communism, then Korea will fall, then Vietnam will fall, then Cambodia will fal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1200" indent="-331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h the U.S. And Soviets also fought “proxy wars” - supporting rival forces within countries in Southeast Asia, the Middle East, Africa, and Latin Ame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91120" y="0"/>
            <a:ext cx="4495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did it end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74320" y="364680"/>
            <a:ext cx="4221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idents Reagan and Premier Gorbachev began peace talks in the mid-1980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late 1980’s, Soviets had loosened their grip on other countries they had controll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viet Communist Party steps out of power in 1989, ending 73-year re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vember, 1989:  Removal of Berlin Wall beg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viet Union breaks up into 15 countries in 199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0546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7240" y="229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uclear Arms Redu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3240" y="2057040"/>
            <a:ext cx="37926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.S. and the USSR signed the START treaty in 199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led to both countries reducing the size of their nuclear arsen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400" y="1980720"/>
            <a:ext cx="379224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789360" y="1828800"/>
            <a:ext cx="53546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9360" y="103320"/>
            <a:ext cx="8224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uclear weapons toda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4680" y="1093680"/>
            <a:ext cx="8778960" cy="4849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743200" y="5303520"/>
            <a:ext cx="603576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rk blue:  Large stockpile with global rang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dium blue:  Small stockpile with global rang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le blue:  Small stockpile with regional rang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was the Cold War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nflict between the world’s two super-powers – the U.S. and the Soviet Union (USS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ted from 1945 until the break up of the Soviet Union in 199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wo countries never directly fought each other on the battlefi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ther, they competed for influence over other parts of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oots of the Cold W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.S. and Soviet Union had been allies during WW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viets suffered more than any other Allied nation at the hands of Nazi Germ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57800" y="1608120"/>
            <a:ext cx="3886200" cy="3143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" y="5029200"/>
            <a:ext cx="83059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00000"/>
              </a:lnSpc>
              <a:buClr>
                <a:srgbClr val="00ccff"/>
              </a:buClr>
              <a:buSzPct val="140000"/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WWII comes to a close in 1945, U.S. and Soviets compete for influence in a rebuilding Europe, and eventually the entir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35160">
              <a:lnSpc>
                <a:spcPct val="100000"/>
              </a:lnSpc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heres of Influence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viet dictator Josef Stalin wants Eastern Europe under Soviet control to act as a “buffer zone” from any future inva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in promises to allow free elections in Poland, but later goes against this prom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President Truman pushes for free democracies in Europe, which will create new markets for American g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man Doctrine” declares that U.S. will combat Communist influence worldw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“Iron Curtain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1946, Communist, Soviet-controlled governments are in place in most of central and eastern Europe, creating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trict boundary with democratic, American-influenced Western Eur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5410440" cy="3516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638680" y="3352680"/>
            <a:ext cx="313704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uilding allia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ern liberal democracies (US, UK, France, Canada, West Germany, and others) formed a military alliance called the North Atlantic Treaty Organization (NAT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2171520" indent="-432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O is still around today and sends soldiers to places like Afghanist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st countries form the Warsaw P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2171520" indent="-432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stern European countries ruled as “satellites” of the Soviet U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79080"/>
            <a:ext cx="82249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492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98720" y="217440"/>
            <a:ext cx="7014960" cy="650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ising the Stak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12120" cy="63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anded Soviet influence makes Americans fear that their dominance may be coming to an 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120" indent="-277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o Zedong leads successful Communist revolution in China (194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120" indent="-277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viets successfully test atomic bomb (194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120" indent="-277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sts North Korea invades South Korea, retreats but withstands U.S. military forces in the Korean War (1950-5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120" indent="-277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viets send first satellite into space – Sputnik (195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120" indent="-277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st East Germany government constructs Berlin Wall to prevent its citizens from escaping to the “free” West (196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120" indent="0"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120" indent="0"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1520" y="182160"/>
            <a:ext cx="8224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Berlin Wall</a:t>
            </a:r>
            <a:br>
              <a:rPr sz="44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(Graffitied side on West, “death strip” on East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492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96920" y="1463760"/>
            <a:ext cx="7040520" cy="539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3:06:53Z</dcterms:created>
  <dc:creator>Dominic Lambek</dc:creator>
  <dc:description/>
  <dc:language>en-US</dc:language>
  <cp:lastModifiedBy>Dominic Lambek</cp:lastModifiedBy>
  <dcterms:modified xsi:type="dcterms:W3CDTF">2010-06-02T17:28:43Z</dcterms:modified>
  <cp:revision>9</cp:revision>
  <dc:subject/>
  <dc:title>The Cold War</dc:title>
</cp:coreProperties>
</file>